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8D81-2D3E-4192-9BDD-E844F81E781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9BA6-0F95-468B-A67C-A1632EB25304}" type="slidenum">
              <a:rPr b="0" lang="en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5C47-57CC-4BAF-B3AD-DDAAEC86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338-0705-42FB-9510-5D72B617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20D-737C-41EF-B688-B8CF6BB2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D1D0-65FC-4D59-9455-0E2C5209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8638-F9D9-4E29-8220-8726F3EB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1A94-FBCE-4F36-9057-0658A1CB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1032-59A1-47A8-90FC-ADC39BC5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D46B-48EF-4670-A3D0-148CF503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3719-A161-4A11-86D7-0D737DCD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9FC5-247A-4DFB-A174-0B24CE4D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41D3-AC7F-41AE-BD30-56D0EFA9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B9E-C9F3-4448-BBC4-6A91EE98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FE11-26FD-4017-9E3C-50AA1079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869F-CB9A-4123-933C-8EB000E0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8592-D422-4885-BEA3-67E904BA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8252-4636-4602-B203-076EC01D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AA26-2A38-4014-AC90-A46A8F22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86CA-9251-42F6-A190-E786EC7B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4DED1-9FB5-4306-91CD-7FC13FD7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F3C28-319F-4736-BE7F-5A77F971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24F53-0E2E-49FA-884A-29203286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3C0AF-C678-4F34-A6B5-32516CB3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2F2-2ADC-4F5F-9F50-B4F2381B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F0168-D4DD-4260-93EE-BF707BD0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070C-5166-4532-8259-66F906DE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80B94-EA71-447E-9940-AD2B61B8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4DD90-368B-48FE-BD36-5004B263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477E-732E-4C69-AB35-94A72488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F080-EAAE-4E14-A9DB-4D1123A3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A46A6-B602-4FEA-B0F6-1B44DCE5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4D51C-8D07-426B-BEA7-70D3CFFA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9F6EF-7B79-4DBA-82AE-722A9CCF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FCBC0-4299-4164-B081-7C28D27E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33D-0668-4543-865E-3C239600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ED47C-974A-4D97-804F-0A6A1CF8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64BB4-769B-4A66-A94A-D7AF4F9B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58D07-00E4-4910-8495-CBA263AD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6C350-B733-4923-ADF0-43C07C24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D8407-4A1C-4B2D-BF13-591E7077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24605-91A8-4737-9732-D4A33FAD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E6BE8-A0A0-493D-B0A0-D99BE20F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ED9B5-4B8F-497D-B775-5FE18CAD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932ED-5F62-41D6-B758-66EA5EE4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3D36B-8051-4A6B-9978-27F20597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020-F26F-4932-88C9-C3F871FA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075DA-9070-4140-9733-A8EB01DF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2FD36-46ED-4EB9-B58D-61757202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55920-5872-45D4-B88F-0FDA0A26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F7A21-1C4F-4F1A-9CD0-2BE6F4FA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28F92-180B-404B-8BF1-485965EC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82B3B-0254-4BB4-B0BE-037BC1C9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F3E69-3F87-4961-AAF8-3770C1EF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2F0DF-34DE-4A38-80CA-BEED8F94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3E046-37E6-42B3-A7E9-2893BCE5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0F00A-9FC2-4060-81F7-A31DD6A4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D6E-12CA-4AB5-A746-B9061A3C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7C803-4AE7-410C-A83B-DDFF0690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EB322-2D88-4022-AC63-64875B89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CF717-E90C-4D8A-8F96-56BFD64F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93D96-49AD-4C59-BCFE-D3EA9095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D59B6-6CB8-4D27-BBA9-40B25F17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C840D-5824-466D-9653-603C6612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80813-CE4F-4945-B70A-A9B5D31C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C12C4-0ABF-4CEE-AA9E-CB6D45AA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CB119-5085-45CF-BDEB-02ECBB0E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52D0D-67E6-4BB8-83A3-F78EA839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259-107A-4D3B-8401-0CB954B2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D1F46-4141-4A0B-8AD6-6DDEC170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03E06-CA21-418D-A366-B0DE52C7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0DD6C-33C4-4F64-9F3E-CD01F427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E5E-92D0-48D4-8EDB-41DBA7A4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F71A-93CA-4E3E-AC1C-726A2511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2275-CD59-4143-8F35-C003EE34A57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5301-FC52-4D41-BB77-C2AF171CCFD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CEB8-C99E-4745-9EB3-B6B9C806AD6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F121-5BF4-48A2-8E37-E0A432FB538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90A2-18FC-4F23-938E-02C5E97D601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CCC5-89E6-4A33-85EF-03E1CBF16E1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talepsy" TargetMode="External"/><Relationship Id="rId2" Type="http://schemas.openxmlformats.org/officeDocument/2006/relationships/hyperlink" Target="http://en.wikipedia.org/wiki/Echolalia" TargetMode="External"/><Relationship Id="rId3" Type="http://schemas.openxmlformats.org/officeDocument/2006/relationships/hyperlink" Target="http://en.wikipedia.org/wiki/Echopraxia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msis.org/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6480" y="92160"/>
            <a:ext cx="9485280" cy="2736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1360" y="2928600"/>
            <a:ext cx="7848360" cy="3714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Peter Chan, MD, FRC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iatric and Consult-Liaison Psychiat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ad of ECT Progra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ncouver General Hospi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Associate Professor, Dept. of Psychiatr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British Columb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8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2-5: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Med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Epival 875 mg/d, Seroquel 350 mg/d, Clonazepam 2 mg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Can’t see”, “Can’t swallow”, more tremor, disorganiz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Antipsychotic prn’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143000" y="5072040"/>
          <a:ext cx="6095880" cy="1482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xap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oqu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9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356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5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erseverate: “blood, blood, blood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Thinks food is poison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acing, Didn’t slee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CPK= 18,245 (normal &lt; 23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WBC= 12,400 (normal &lt; 11,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T= 37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BP = 170/90 (not lab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PR = 1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0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hat is your diagno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hat is the differential diagno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hat is your next step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796752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Franklin Gothic Book"/>
              </a:rPr>
              <a:t>Case Presentation-11</a:t>
            </a: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: </a:t>
            </a:r>
            <a:r>
              <a:rPr b="0" lang="en-CA" sz="4000" spc="-1" strike="noStrike">
                <a:solidFill>
                  <a:srgbClr val="ffffff"/>
                </a:solidFill>
                <a:latin typeface="Franklin Gothic Book"/>
              </a:rPr>
              <a:t>Ms. A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28760" y="356760"/>
            <a:ext cx="84009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5-7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5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ransfer to Acute Medicine Step Down:  N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Antipsychotics sto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6: “lead pipe rigidity”, Dantrole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7: Bromocryptine added, Desat 80% O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ransfer to ICU after code blue (aspiration L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EEG:  Mild slowing lef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roponin 0.53 (normal &lt; 0.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4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857160" y="4572000"/>
          <a:ext cx="7143840" cy="22255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5960"/>
                <a:gridCol w="1785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B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2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8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0-14,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2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8-12 (ICU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8: Midazolam drip, no clonazepam, stop Epiv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9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Repeat E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Mild diffuse encephalopathy, intermittent slowing ( 1-3 Hz delt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CT h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Nil acute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12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Rigidity, voluntary component, Rabbit-like jaw trem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hat is the next step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4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60360" indent="-3290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12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BT ECT initiated in ICU (rocuronium use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0340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Hypotension, bolus hel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0360" indent="-3290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13-Dec 6 (ICU then Acute Medicine Uni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BT ECT’s times 9, 50% energy dos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low improvement in alertness, rigidity, spee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Tremor and “rabbit” jaw movements g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miling, recognizing fami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Feeding tube but eating s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Transferred to Provincial Institution from STAT on Dec 10 for further treatmen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atonia: DSM-IV criteri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3840" y="1571400"/>
            <a:ext cx="87267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Motor immobility as evidenced by </a:t>
            </a:r>
            <a:r>
              <a:rPr b="0" lang="en-CA" sz="19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catalepsy</a:t>
            </a: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 (including waxy flexibility) or stupo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Excessive motor activity (purposeless, not influenced by external stimuli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Extreme negativism (motiveless resistance to all instructions or maintenance of a rigid posture against attempts to be moved) or Mutis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Peculiarities of voluntary movement as evidenced by posturing, stereotyped movements, prominent mannerisms, or prominent grimacin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Echolalia</a:t>
            </a: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CA" sz="19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Echopraxia</a:t>
            </a: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t least 2 of the above features                     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ue to mental (eg: Schizophrenia or Mood Disorders) or medical disord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oes not occur exclusively during the course of a Deliriu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*Gegenhalten, Mitgehen, Automatic Obedience, Ambitendenc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ink Catatonia Scale (1996): www.ukppg.org.uk/catatonia.htm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:  Phenomenology-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Postur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pontaneous maintenance of posture (s), including mundane (e.g. sitting or standing for long periods without reacting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Limb postu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sychic pillo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St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:  Phenomenology-2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428840"/>
            <a:ext cx="8543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ig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Maintenance of a rigid position despite efforts to be moved, exclude if cog-wheeling or tremor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Negativ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Apparently motiveless resistance to instructions or attempts to move/examine patients. Contrary behaviour, does exact opposite of instr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axy Flex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uring reposturing of patient, patient offers initial resistance before allowing himself to be repositioned, similar to that of a bending cand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earning Objectiv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review symptoms and signs of catatonia including lethal catatonia.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know the overlap between catatonia and neuroleptic malignant syndrome.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understand the role of ECT in both catatonia and neuroleptic malignant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:  Phenomenology-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Arial"/>
              </a:rPr>
              <a:t>Gegenhalt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Continuous involuntary sustained muscle contraction When an affected muscle is passively stretched, the degree of resistance remains constant regardless of the rate at which the muscle is stretch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Mitgeh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"Anglepoise lamp" arm raising in response to light pressure of finger, despite instructions to the contrar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:  Phenomenology-4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21428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Ambitende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atient appears "motorically stuck" in indecisive, hesitant move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Automatic Obedi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Exaggerated cooperation with examiner's request or spontaneous continuation of movement request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Lethal Catatonia (Kahlbaum 1874)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Mann et al., Amer. J. Psych. 1986; 143:11, p. 1374-81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assic description (Pre-neuroleptic era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nse motor excitement followed by hyperthermia and exhaustion or stup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ften prodromal phase of insomnia, anorexia, labile m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demontrate catatonic signs, and be delirious-like (disorganized thinking, psychosis, destructiv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have rigidity, or flaccidity, in terminal st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ence of acrocyanosis in s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tal in 75-100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ethal Catatoni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144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st-neuroleptic er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por may be predominant pres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tipsychotics, benzo’s, etc. can decrease excit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 to 10% inpatient psych. admissio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tal in 60%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Neuroleptic Malignant Syndrome:  DSM-IV criteria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560" y="2017440"/>
            <a:ext cx="8839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severe rigidity and elevated temperature associated with the use of neuroleptic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of the following:  diaphoresis, dysphagia, tremor, incontinence, change LOC, mutism, tachycardia, elevated or labile BP, elevated WBC or CPK (may also observe myoclon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due to another substance,  or neurological disorder, or other general medical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better accounted for by a mental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and Medications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218960" y="25142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tipsychotic med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thdrawal of L-Dopa or dopamine agoni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chlorperazine (Stemeti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oclopramide (Maxera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trabenanzine (Nitoma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risk facto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haustion and Dehydr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itation, Stress, Psycho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gher potency, rapid titration, multiple I.M.’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vironmental heat a factor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vious history (trait vulnerability?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7% hx. of N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0% will develop NMS again upon re-challe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6ea0b0"/>
                </a:solidFill>
                <a:latin typeface="Franklin Gothic Book"/>
              </a:rPr>
              <a:t>NMS: Pathogenic Mechanism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Figure 1. Simplified Pathophysiology of Neuroleptic Malignant Syndrome (NMS), and Elements of Sympathoadrenal Dysreg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From:  Strawn J. Neuroleptic Malignant Syndrome (review).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Am J Psychiatry 164:870-876, Jun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-23760" y="622440"/>
            <a:ext cx="91868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0" y="-76320"/>
          <a:ext cx="9144000" cy="7012080"/>
        </p:xfrm>
        <a:graphic>
          <a:graphicData uri="http://schemas.openxmlformats.org/drawingml/2006/table">
            <a:tbl>
              <a:tblPr/>
              <a:tblGrid>
                <a:gridCol w="216000"/>
                <a:gridCol w="2285640"/>
                <a:gridCol w="300240"/>
                <a:gridCol w="428400"/>
                <a:gridCol w="511200"/>
                <a:gridCol w="749520"/>
                <a:gridCol w="747720"/>
                <a:gridCol w="747720"/>
                <a:gridCol w="672840"/>
                <a:gridCol w="1557360"/>
                <a:gridCol w="927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chdev NMS Scale (2005): total=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temper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id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phag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ing trem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olic 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stolic 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hycar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phore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ntin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hypn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ed LO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verty of spee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reifor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to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 level (U/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cocyt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1285920" y="2143080"/>
          <a:ext cx="6095880" cy="31431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K level (U/L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 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0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–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1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 if i.m. injection in previous 24 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–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2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 if i.m. injection in previous 24 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–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3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 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4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Sachdev NMS Rating Scale:</a:t>
            </a:r>
            <a:br>
              <a:rPr sz="4600"/>
            </a:b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 CK Levels (Psych Res. 2005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2876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68 y.o. Italian independent woman, some command of English, on Thioridazine (Mellaril) for 49 years, since last institutional admiss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History of Psychosis, postpartu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 family psychiatric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Brief hosp. In 1990’s at SVH after Thioridazine briefly D/C’d...hysterectom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idow in 2002, lives alone in house, Gr. 5 education, restaurant worker, supportive 2 sons,1 dtr., brother and sis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Cour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.2% of pati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6% develop within 24 hrs of expo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6% develop within 1 week of expo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rtually all by 1 month of expo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3% recover within 1 week of elimin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rtually all recover by 1 month of elimin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ould wait 2 weeks at least after recovery before re-challenge with antipsychot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-20% mortality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w have persistent catatonic and/or parkinsonian sta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aroff, S. J. Clin. Psychopharm. 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Treatment: Inform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2438280"/>
            <a:ext cx="8915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uroleptic Malignant Syndrome Information Service (NMSIS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4 hr. Hotline for professionals: 1-888-667-836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www.nmsis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formation: 1-888-776-674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n-profit clinical and research group—Drs. Caroff, Mann, Campbell (U. Pen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NMS: Catatonic and Non-Catatonic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Lee JW, Aust NZ J. of Psych. 2000; 34(5): 877-8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tecedent Catatonia may predispose to catatonic N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n-catatonic NMS more likely preceded by severe EPS and deliriu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NMS and Catatonia: Similariti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142884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earance of catatonic symptoms in N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earance of rigidity and hyperthermia in (lethal) catato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eatment with Lorazepam in NM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rancis A. CNS Spectrum 2000)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d Catatonia can impro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T effective in bo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=292 Lethal Catatonia patients from 196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ann S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m J Psychiatry 1986; 143:1374-1381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able to distinguish from NMS in 22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NMS and Catatonia: Differenc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07136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reme (lead pipe) rigidity uncommon in catato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ereotypic signs of catatonia unusual in N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citement then hyperthermia pre-neuroleptic in lethal catatonia; rigidity then hyperthermia post-neuroleptic in N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tentially effective treatments for NMS (dopamine agonists, dantrolene) less proven in catato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milar Conditions:  DDx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t Hyperther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holinergic Deli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str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c Deli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otonin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usable alcohol or drug withdrawal (eg: delirium tremens) and intoxication (eg: Ecstas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us epilepticus and other CNS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ic Conditions: infection, hyperthyroidism, pheochromocytoma, adrenal cortical abnormalities, other causes of rhabdomyolysis (eg: collap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In the modern era, the most likely psychiatric cause for catatonia is Bipolar Disorder, esp. Ma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More likely when severe ma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Kahlbaum, Bleuler, Kraepelin all noted mood disturbance preceding catato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Foot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Taylor MA, Am J Psych 200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100" spc="-1" strike="noStrike">
                <a:solidFill>
                  <a:srgbClr val="ffffff"/>
                </a:solidFill>
                <a:latin typeface="Franklin Gothic Book"/>
              </a:rPr>
              <a:t>Prevalence of Catatonia and Mania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2500200" y="1500120"/>
            <a:ext cx="4143600" cy="4357800"/>
          </a:xfrm>
          <a:prstGeom prst="rect">
            <a:avLst/>
          </a:prstGeom>
          <a:ln w="0">
            <a:noFill/>
          </a:ln>
        </p:spPr>
      </p:pic>
      <p:sp>
        <p:nvSpPr>
          <p:cNvPr id="338" name="Foot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Taylor MA, Am J. Psych 200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Pathogenic Mechanisms: Catatonia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urochemical substrat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2 antagonists can worsen catato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BA-B, 5-HT1A agonists promote catato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BA-A, 5-HT2A, NMDA agonists reduce catato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. Northoff (2000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bbsonline.org/documents/a/00/00/22/44/bbs00002244-00/bbs.northoff.ht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4 page pa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p Down Modulation”: subcortical and cortical circuits reciprocally conn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GABA-mediated, rather than D2 medi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http://www.bbsonline.org/documents/a/00/00/22/44/bbs00002244-00/figure2.jpg"/>
          <p:cNvPicPr/>
          <p:nvPr/>
        </p:nvPicPr>
        <p:blipFill>
          <a:blip r:embed="rId1"/>
          <a:stretch/>
        </p:blipFill>
        <p:spPr>
          <a:xfrm>
            <a:off x="642960" y="0"/>
            <a:ext cx="7858080" cy="650088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Northoff 20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2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4284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June 200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Loxapine 25 mg bid after stop Mellaril in May 200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Labile, energetic, little sleep, racing thou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melling bad odours in h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aranoid, carrying knife, throwing items in frust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Confused” , disorganized, suicid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VGH Inpt Unit via emergency (June 10-July 18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x: Bipolar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Olanzapine 15 mg q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razadone 100 mg q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Clonazepam 0.25 mg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7470720" cy="5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100" spc="-1" strike="noStrike">
                <a:solidFill>
                  <a:srgbClr val="ffffff"/>
                </a:solidFill>
                <a:latin typeface="Franklin Gothic Book"/>
              </a:rPr>
              <a:t>Modulation in Catatonia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44" name="Picture 2" descr="http://www.bbsonline.org/documents/a/00/00/22/44/bbs00002244-00/figure4.jp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45" name="Foot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Northoff 20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ttp://www.bbsonline.org/documents/a/00/00/22/44/bbs00002244-00/figure3.jpg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715240" cy="51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Franklin Gothic Book"/>
              </a:rPr>
              <a:t>The Frontal Lobes and its Connection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Northoff 20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3571920" y="2143080"/>
            <a:ext cx="2143080" cy="357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1214280" y="4143240"/>
            <a:ext cx="1714680" cy="21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7572240" y="5786280"/>
            <a:ext cx="1428840" cy="21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100" spc="-1" strike="noStrike">
                <a:solidFill>
                  <a:srgbClr val="ffffff"/>
                </a:solidFill>
                <a:latin typeface="Franklin Gothic Book"/>
              </a:rPr>
              <a:t>Catatonia and PD: Differenc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14200" y="2357280"/>
          <a:ext cx="8929800" cy="4173840"/>
        </p:xfrm>
        <a:graphic>
          <a:graphicData uri="http://schemas.openxmlformats.org/drawingml/2006/table">
            <a:tbl>
              <a:tblPr/>
              <a:tblGrid>
                <a:gridCol w="1636920"/>
                <a:gridCol w="3483000"/>
                <a:gridCol w="3809880"/>
              </a:tblGrid>
              <a:tr h="1626480"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B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orazepam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ba-ergic mediated neuronal inhibition in medial orbitofrontal corte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Modulation of functional and behavioral inhib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9160"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MD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Amantadin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wn-regulation of glutamatergic-mediated overexcitation in prefrontal and orbitofrontal-parietal pathw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wn-regulation of glutamatergic-mediated overexcitation in subcortical pathw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8200"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p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p-down modulation of striatal D-2 receptors predisposing for neuroleptic-induced cataton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Compensation for striatal D-2 receptor deficit with "normalization" of "bottom-up mod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2000160" y="1285920"/>
          <a:ext cx="6096240" cy="557280"/>
        </p:xfrm>
        <a:graphic>
          <a:graphicData uri="http://schemas.openxmlformats.org/drawingml/2006/table">
            <a:tbl>
              <a:tblPr/>
              <a:tblGrid>
                <a:gridCol w="2911680"/>
                <a:gridCol w="3184560"/>
              </a:tblGrid>
              <a:tr h="557280">
                <a:tc>
                  <a:txBody>
                    <a:bodyPr lIns="34560" rIns="3456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Cataton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arkins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atatonia Treatment: Review of Lit.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Hawkins et al., Int. J. Psych. Med. 1995; 25(4): 345-69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=178, 1985-1994 published ca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nzo’s effective in 70% (Lorazepam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T effective in 85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tipsychotics effective in 7.5%, or may even worsen symptoms (neuroleptic-induced catatoni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atonia: 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le out medical cond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razepam 1-12mg/day, up to 72hrs. Tr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fic GABA-A agon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ntrolene to be considered if rigid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T is treatment of cho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y consider mECT if recurr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ypical Antipsychotic? (not for lethal catatoni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mantadin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antin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Treatment: Biological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continue Antipsychotic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ortive Medical Treat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ild to Moderate NM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omocryptine 2.5-5 mg q8h (up to 30mg/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mantadine 100mg q8h (to 200-400mg/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use Benzo (eg: Lorazepam 1-8 mg/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derate to Severe NM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ntrolene IV 1-2.5mg/kg (1mg/kg q6h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CT (bilateral, may even be daily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NMS and ECT: Review of Lit.</a:t>
            </a:r>
            <a:br>
              <a:rPr sz="4100"/>
            </a:br>
            <a:r>
              <a:rPr b="0" lang="en-US" sz="2200" spc="-1" strike="noStrike">
                <a:solidFill>
                  <a:srgbClr val="ffffff"/>
                </a:solidFill>
                <a:latin typeface="Franklin Gothic Book"/>
              </a:rPr>
              <a:t>Trollor and Sachdev, Aust.NZ J. of Psych 1999; 33:650-59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2209680"/>
            <a:ext cx="9144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5 published cases from 1966, and 9 new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tonia manifested in 76%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3% complete and 28% partial recovery with 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 of ECT response average 4 treatments, generally by 6 trea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cases of cardiovascular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the use of succinylcholine unless familial malignant hyperthermia—only one case of hyperkalemia following ECT for N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and ECT: Potential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243828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ollor and Sachdev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re N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al between NMS and catatonia uncert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sychotic depression is the underlying disor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tatonia predominates in N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5086440" cy="3495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 Treatment Algorithm</a:t>
            </a:r>
            <a:br>
              <a:rPr sz="4600"/>
            </a:br>
            <a:r>
              <a:rPr b="1" lang="en-CA" sz="2800" spc="-1" strike="noStrike">
                <a:solidFill>
                  <a:srgbClr val="ffffff"/>
                </a:solidFill>
                <a:latin typeface="Franklin Gothic Book"/>
              </a:rPr>
              <a:t>Filip Van Den Eede et al. European Psychiatry 2005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1356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can be difficult to differentiate NMS and catatonia in practice, and definitive treatments are simi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antipsychotics with less dopamine blockade is probably less likely to produce NMS and less likely to be severe, according to the dopaminergic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NMS and catatonia can be safely and effectively treated with ECT, providing precautions are consid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3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hort-term Assessment and Treatment (STAT) Geriatric In Unit (Aug 23, 2007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Had been seen at STAT Day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Incontinent with urinary re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witched from Olanzapine to CPZ 250 mg/d by community psy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Dependent on IADL’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3MS=72/100; FMMSE=24/2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4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TAT In-Unit (Aug 23-Sept 14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Mood labile, insom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Alternates between singing at night and weeping in daytime, playing ope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ome pressure of spee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x: Bipolar, mixed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Epival 750 mg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Quetiapine 100 mg q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5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4288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ept 15-28, 2007: H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Hypomanic in Day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Increased home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Compliant with Epival (level=498) , mixing up blister packed med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on called emergency mental health services on Sept 25: threaten him with a knife “leave me alone”, crying continually, plays loud opera music in the phone, looking for a new partner, hostile and throwing things, isolate from fami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Quetiapine up to 175 mg/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6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42848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VGH Psych Emerg. and STAT (Sept 28-Nov 5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eroquel increased to 350 mg/d, multiple IM doses  in Psych Emerg.  Seclusion roo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Oct 3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Mood lab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emanded to see her husband, anniversary pa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Sad...join husband, tearful, tangential, speak lo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hysically aggres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Grandiose “I’m God. Don’t touch me...kill you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Sleeping 2 h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3MS=49/100; FMMSE=18/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Clonazepam 2 mg/d, Seroquel, Epival (level = 57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7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Oct 31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Feel dizzy, speech different, tremor, headach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CPK=37, WBC=8000, Valproic level=66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2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3 hrs/nt sleep past 2 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aranoid, hypervigil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Fine resting tremor (no cogwheelin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thing inside”, Perseverate: “blood, blood, blood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Resistance to food, labile m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0:28:37Z</dcterms:created>
  <dc:creator>Peter Chan</dc:creator>
  <dc:description/>
  <dc:language>en-US</dc:language>
  <cp:lastModifiedBy>Peter</cp:lastModifiedBy>
  <dcterms:modified xsi:type="dcterms:W3CDTF">2008-09-05T14:31:40Z</dcterms:modified>
  <cp:revision>129</cp:revision>
  <dc:subject/>
  <dc:title>An Update on Catatonia and Neuroleptic Malignant Syndrome</dc:title>
</cp:coreProperties>
</file>